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5FE-A22D-4F35-AE7E-5F063A0EA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81C7-D266-4983-B43B-86B49DB6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0010-2E42-4B5E-B239-45EFBD72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84ED-340E-4FAF-B743-3242B2C7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BDD-C05B-4087-83F2-E8D067FCF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12B1-9E3E-4CCE-85C2-E6D1797E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2A2-0507-4C5C-9454-A29BC93C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AFA5-F10B-4E99-931D-34229D6F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BE87-1C5C-4F34-B9F9-E9307913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F2DA-8E4B-4622-A9EF-2E1B559C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7EC6-78B1-43E6-9D35-D15FB9B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70C-3D75-4156-9BA9-A9ECE2CF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1D8D-E5AA-475F-8AF1-C1EC5E144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0816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 $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82880" y="314316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75040" y="3144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2920" y="3147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542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5400" y="52894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6329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45403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70%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8160" y="5581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0% LAB/HW/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3320" y="3117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14200"/>
            <a:ext cx="6219720" cy="1971720"/>
            <a:chOff x="914400" y="214200"/>
            <a:chExt cx="6219720" cy="1971720"/>
          </a:xfrm>
        </p:grpSpPr>
        <p:sp>
          <p:nvSpPr>
            <p:cNvPr id="81" name=""/>
            <p:cNvSpPr/>
            <p:nvPr/>
          </p:nvSpPr>
          <p:spPr>
            <a:xfrm>
              <a:off x="2050200" y="2142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7800" y="6444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5421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88840" y="62712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17640" y="2649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22560" y="8571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1760" y="858960"/>
            <a:ext cx="515160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861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7440" y="76824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0400" y="83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505320"/>
            <a:ext cx="6219720" cy="1971720"/>
            <a:chOff x="1143000" y="3505320"/>
            <a:chExt cx="6219720" cy="1971720"/>
          </a:xfrm>
        </p:grpSpPr>
        <p:sp>
          <p:nvSpPr>
            <p:cNvPr id="92" name=""/>
            <p:cNvSpPr/>
            <p:nvPr/>
          </p:nvSpPr>
          <p:spPr>
            <a:xfrm>
              <a:off x="2278800" y="350532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6400" y="393552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83328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17440" y="391788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36511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28Z</dcterms:modified>
  <cp:revision>18</cp:revision>
  <dc:subject/>
  <dc:title>Slide 1</dc:title>
</cp:coreProperties>
</file>